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01ED-9A5A-4A39-92EC-B9F15E36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E045-A083-4F86-AD3F-D9D09569F5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DDE4-15B4-4439-BACC-92A62E12C5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D434-100F-41F7-A9DE-7860AD0200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D3D2-4821-401A-B19F-3A43C093C9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5C5F-DBCD-4E5D-A484-B56CCBABEF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74F4-8C77-419E-ABCD-BE4D4129BD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4ACC-213A-4327-9878-A7F69C586E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FE45-395F-435D-A0D1-FBD7B02841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B19-5F39-4DE1-A6F8-F80B68FD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937-FE67-4D19-92F9-1D5E223F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8DB-3713-4AF3-A64D-8201CBEF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7B6-D5EC-4F0D-B504-DE4F3A36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3F1-5F34-488D-8543-8151FF19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497-E7C3-47F3-A7EB-A69A2DB1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6A9-0A1F-4F59-97DC-1C5FE974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02F-D9CF-4390-96D6-87C7260F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44FF-18D2-4DDE-994A-A25B5C8A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759-FA8B-4B30-8D67-F0308BCE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594-AB24-4891-98F8-59F02FE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4A3-5805-46C7-A99E-D99BAAF8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9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690E-CA35-42F5-A0D0-0345C8B216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rcRect l="0" t="0" r="1001" b="0"/>
          <a:stretch/>
        </p:blipFill>
        <p:spPr>
          <a:xfrm>
            <a:off x="304920" y="685800"/>
            <a:ext cx="7772400" cy="5905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 Black"/>
              </a:rPr>
              <a:t>Journal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:  Write a paragraph answering, “How do you want to pop?”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00"/>
                </a:solidFill>
                <a:latin typeface="Arial Black"/>
              </a:rPr>
              <a:t>“</a:t>
            </a:r>
            <a:r>
              <a:rPr b="0" lang="en-US" sz="7200" spc="-1" strike="noStrike">
                <a:solidFill>
                  <a:srgbClr val="003300"/>
                </a:solidFill>
                <a:latin typeface="Arial Black"/>
              </a:rPr>
              <a:t>Bee” Prepared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7" descr="AN01725_[1]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3003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4419720" y="22096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do we need to do to “Bee” prepare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4495680" y="464832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How does making decisions help you to be prepare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380880" y="1066680"/>
            <a:ext cx="85345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Decision Making</a:t>
            </a:r>
            <a:endParaRPr b="0" lang="en-US" sz="96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37260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86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teps to Making a Dec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7" descr="BD07022_[1]"/>
          <p:cNvPicPr/>
          <p:nvPr/>
        </p:nvPicPr>
        <p:blipFill>
          <a:blip r:embed="rId1"/>
          <a:stretch/>
        </p:blipFill>
        <p:spPr>
          <a:xfrm>
            <a:off x="609480" y="1447920"/>
            <a:ext cx="3349800" cy="5105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4343400" y="1447920"/>
            <a:ext cx="4419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tep 5:  Evaluate results of the decision and accept responsibility for results of the decision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tep 4:  Make a decision, plan and act on the decision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tep 3:  Explore and evaluate possible solution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tep 2:  Brainstorm possible solution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tep 1:  Identify the problem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447920" y="1828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VALU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990720" y="3733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DENTIF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14300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RAINSTORM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4479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C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295280" y="259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XPLOR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Arial Black"/>
              </a:rPr>
              <a:t>What influences your decisions?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WordArt 4"/>
          <p:cNvSpPr txBox="1"/>
          <p:nvPr/>
        </p:nvSpPr>
        <p:spPr>
          <a:xfrm rot="19704600">
            <a:off x="380520" y="4343040"/>
            <a:ext cx="34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eer Pressure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66" name="WordArt 5"/>
          <p:cNvSpPr txBox="1"/>
          <p:nvPr/>
        </p:nvSpPr>
        <p:spPr>
          <a:xfrm>
            <a:off x="2666880" y="556272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Society's Expectations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67" name="WordArt 6"/>
          <p:cNvSpPr txBox="1"/>
          <p:nvPr/>
        </p:nvSpPr>
        <p:spPr>
          <a:xfrm rot="1819800">
            <a:off x="5257800" y="2666880"/>
            <a:ext cx="3495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Self-image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4572000" y="4191120"/>
            <a:ext cx="4267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Parental Expectations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69" name="WordArt 8"/>
          <p:cNvSpPr txBox="1"/>
          <p:nvPr/>
        </p:nvSpPr>
        <p:spPr>
          <a:xfrm>
            <a:off x="533520" y="1676520"/>
            <a:ext cx="4419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Other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Commitments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Arial Black"/>
              </a:rPr>
              <a:t>Group Decision Making Assignment (HO)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Work 10 minutes by yourself –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NO tal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Work 10 minutes with group (5 peop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Take home and finish with whoever will help you.  Bring to class completed nex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00"/>
                </a:solidFill>
                <a:latin typeface="Arial Black"/>
              </a:rPr>
              <a:t>Cost vs. Benefit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efore making a decision, weigh the cost vs. benef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 the story, Country Mouse thinks about what he likes (the benefits), and then he thinks about what he does not like (the costs), and then he makes a decision to stay or go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 Black"/>
              </a:rPr>
              <a:t>Choice vs. Chanc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very day we make choices based on the chance that certain events might occ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We estimate the probability for the event to occ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Then we examine the consequence of the event and make a deci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7T16:15:47Z</dcterms:created>
  <dc:creator>Doreen Robinson</dc:creator>
  <dc:description/>
  <dc:language>en-US</dc:language>
  <cp:lastModifiedBy>Eliss Herman</cp:lastModifiedBy>
  <dcterms:modified xsi:type="dcterms:W3CDTF">2013-10-16T12:11:27Z</dcterms:modified>
  <cp:revision>70</cp:revision>
  <dc:subject/>
  <dc:title>Self-Management A</dc:title>
</cp:coreProperties>
</file>